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B41F-FCF4-44C3-97E4-A19CAFF5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328-08AC-4BC2-A4C2-913E8408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A4E-CD71-4EA7-BCBD-EE5FE79F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50F-39CE-4701-AE1B-51BEB13F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FD0D-ACAA-45EA-A221-96E0C459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2E8-5468-4DB6-8EC3-43490473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A9AC-1535-4865-82AA-299E54ED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7844-7F1A-4D0D-8142-C5CF89F3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8F61-B081-4544-A4D4-95BD2724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C51A-1F90-4965-8555-2F3D39A5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90F-BBFC-481F-8DEB-CDCF13FE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80E-78C6-41E5-8087-2CCAB409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E014-7F6F-4BF5-A237-A3A291710618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d you may ask yourself, self how did I get her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Earth in the Beginning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62120"/>
            <a:ext cx="990612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Early conditions of  Earth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Hot = UV light gets to the surfa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Violent =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Earthquakes (plate tectonics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Volcano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Meteo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Lightn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Early atmospher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Methane (CH4)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Hydrogen (H2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Ammonia (NH3)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Water Vapor (H2O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Carbon Dioxide (CO2)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parin’s Hypothesi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parin suggested that the gases in the primitive atmosphere plus energy might form the precursors to lif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Miller tried i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3893" t="3336" r="2650" b="4444"/>
          <a:stretch/>
        </p:blipFill>
        <p:spPr>
          <a:xfrm>
            <a:off x="0" y="0"/>
            <a:ext cx="59482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67280" y="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iller-Urey Experimen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867280" y="1371240"/>
            <a:ext cx="3276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lectric spark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ightn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V radia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as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ethan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Hydrogen ga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Ammoni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Water vapo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reate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denin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NA/DN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arbohydrate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ever lif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5200"/>
          <a:stretch/>
        </p:blipFill>
        <p:spPr>
          <a:xfrm>
            <a:off x="0" y="0"/>
            <a:ext cx="9144000" cy="4170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Book Antiqua"/>
              </a:rPr>
              <a:t>First lif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39621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first life on earth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eterotrophic prokaryotes ate the organic compounds found in the primordial sou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first autotroph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cteria called archaebacteria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sed chemosynthesis not photosynthesi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435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xygen in the Atmosphere!!!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14800" y="914400"/>
            <a:ext cx="5029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hotosynthesis appeared @ 3000 my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 algn="r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karyotes related to cyanobacteria (blue green algae) were the first to photosynthesiz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 algn="r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xygen was a byproduct of photosynthesi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Extinction and Protec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Oxygen was deadly to most of the organisms.  It caused the first major extinction on earth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ome prokaryotes survived and used oxygen for more efficient respir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Oxygen also formed Ozone (O3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ozone is poisonous to animals and pla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ozone protects the earth (particularly exposed land from DNA damaging UV r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Evidence of Oxyge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We have evidence of Oxygen appearing in the rusty bands of rock shown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63880" indent="-2638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Before oxygen was in the atmosphere, iron containing rocks couldn’t rus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0" b="5283"/>
          <a:stretch/>
        </p:blipFill>
        <p:spPr>
          <a:xfrm>
            <a:off x="0" y="2762280"/>
            <a:ext cx="9144000" cy="4095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First Eukaryo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endosymbiont theory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7760" y="-360"/>
            <a:ext cx="6095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mall aerobic prokaryotes entered and began to live inside larger anaerobic prokaryot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itochondria&amp;chloroplast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posed by Lynn Marguli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Characteristics of all Living Thing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ow sam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ow different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ow classif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267080" y="1828800"/>
            <a:ext cx="4191120" cy="4191120"/>
            <a:chOff x="4267080" y="1828800"/>
            <a:chExt cx="4191120" cy="4191120"/>
          </a:xfrm>
        </p:grpSpPr>
        <p:pic>
          <p:nvPicPr>
            <p:cNvPr id="87" name="" descr=""/>
            <p:cNvPicPr/>
            <p:nvPr/>
          </p:nvPicPr>
          <p:blipFill>
            <a:blip r:embed="rId1"/>
            <a:srcRect l="0" t="0" r="0" b="3442"/>
            <a:stretch/>
          </p:blipFill>
          <p:spPr>
            <a:xfrm>
              <a:off x="4267080" y="1828800"/>
              <a:ext cx="419112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 txBox="1"/>
            <p:nvPr/>
          </p:nvSpPr>
          <p:spPr>
            <a:xfrm>
              <a:off x="4267080" y="1828800"/>
              <a:ext cx="4191120" cy="419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art 1:   History of the Earth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earth formed 4.6 billion years ago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51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10080" y="53352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Book Antiqua"/>
              </a:rPr>
              <a:t>EVOLUTION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4500 million year history of the earth is broken in to unequal era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history of the earth is 100,000 times longer than human histor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3051000"/>
            <a:ext cx="8915400" cy="3807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Geologic Time Scal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arth has changed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the organisms living on it changed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fossil record says yes!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arth’s History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ll of the elements that we know of are thought to have been in the universe since its formation. The prevalent elements on the Earth have changed over tim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e are stardust, We are golde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4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Origin of Life on Earth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3657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earth solidified @ 4 bil yrs ago (bya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earth’s atmosphere came from gases blown from st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inly hydrogen and heli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fter the earth cooled, gases from volcanoes were added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7T18:15:47Z</dcterms:created>
  <dc:creator>Beth Waid Prince</dc:creator>
  <dc:description/>
  <dc:language>en-US</dc:language>
  <cp:lastModifiedBy>Tricia</cp:lastModifiedBy>
  <cp:lastPrinted>2001-01-20T19:53:34Z</cp:lastPrinted>
  <dcterms:modified xsi:type="dcterms:W3CDTF">2007-03-27T13:25:48Z</dcterms:modified>
  <cp:revision>66</cp:revision>
  <dc:subject/>
  <dc:title>Evolution</dc:title>
</cp:coreProperties>
</file>